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3080" y="52905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4960" y="213948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43080" y="52905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04960" y="52905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29280" y="213948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15480" y="213948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43080" y="52905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29280" y="52905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515480" y="52905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43080" y="213948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4960" y="213948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43080" y="365040"/>
            <a:ext cx="6170400" cy="70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4960" y="213948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3080" y="52905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4960" y="213948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504960" y="52905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4960" y="213948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3080" y="52905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07240"/>
            <a:ext cx="6858000" cy="233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4dc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6858000" cy="6807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4dc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5024520"/>
            <a:ext cx="6858000" cy="304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2133720"/>
            <a:ext cx="6858000" cy="6807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156280"/>
            <a:ext cx="6858000" cy="398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4dc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858000" cy="515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4dc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37000"/>
            <a:ext cx="6858000" cy="304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133720"/>
            <a:ext cx="6858000" cy="6807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43080" y="8229600"/>
            <a:ext cx="2514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343080" y="213948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076640" y="7967520"/>
            <a:ext cx="277992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1489f"/>
                </a:solidFill>
                <a:latin typeface="Arial"/>
              </a:rPr>
              <a:t>MADRID, JUNIO DE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8360" y="1600200"/>
            <a:ext cx="5381280" cy="67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 u="sng">
                <a:solidFill>
                  <a:srgbClr val="31489f"/>
                </a:solidFill>
                <a:uFillTx/>
                <a:latin typeface="Trebuchet MS"/>
                <a:ea typeface="Arial Unicode MS"/>
              </a:rPr>
              <a:t>Graduado en Ingeniería Informá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31489f"/>
                </a:solidFill>
                <a:latin typeface="Trebuchet MS"/>
                <a:ea typeface="Arial Unicode MS"/>
              </a:rPr>
              <a:t>Universidad Politécnica de Mad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31489f"/>
                </a:solidFill>
                <a:latin typeface="Trebuchet MS"/>
                <a:ea typeface="Arial Unicode MS"/>
              </a:rPr>
              <a:t>Facultad de Informá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31489f"/>
                </a:solidFill>
                <a:latin typeface="Trebuchet MS"/>
                <a:ea typeface="Arial Unicode MS"/>
              </a:rPr>
              <a:t>TRABAJO FIN DE GR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89f"/>
                </a:solidFill>
                <a:latin typeface="Trebuchet MS"/>
                <a:ea typeface="Arial Unicode MS"/>
              </a:rPr>
              <a:t>Técnicas para la estimación y planificación de proyectos de software con ciclos de vida incremental y paradigma orientado a obje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31489f"/>
                </a:solidFill>
                <a:latin typeface="Trebuchet MS"/>
                <a:ea typeface="Arial Unicode MS"/>
              </a:rPr>
              <a:t>Aut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31489f"/>
                </a:solidFill>
                <a:latin typeface="Trebuchet MS"/>
                <a:ea typeface="Arial Unicode MS"/>
              </a:rPr>
              <a:t>Direct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73720" y="539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04640" y="79200"/>
            <a:ext cx="2087640" cy="189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